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475-6023-49C5-8DE6-430AF8DB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30F-D067-4650-8EDA-FEA7B5CA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07E-94B2-4E5E-81FB-6B8C928C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89D-D451-4818-98EC-28DC1997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9779-ACA3-43C0-89C9-27E705AF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233F-0EE4-4481-A9E6-E4CFB15B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E388-947E-4693-8CB2-8EDD7031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D4A7-88BD-4F93-90A6-7DF00318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331F-6D64-41FF-926F-2BD6D504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AD69-7C9C-47FD-9AE3-B9275A11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ED04-DB08-42CB-9839-A2DEDD81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723-243A-4213-9914-66A046C1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F48A-31F5-4A99-9BF6-3DCA34C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8EDB-C5EA-4F13-8F8F-A57C38A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63F7-394F-4608-8B79-CD477405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D132-CAAA-4E38-AB0E-16F7BEBE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DC04-8B19-497F-A798-B23F69D1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E7E-3176-4210-A919-EC638015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CFB-9DA7-4D3C-92DF-2FA604EC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684-435E-4FBF-8C69-A42500D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F7C-B529-4E67-BE11-AC2E8BDA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704-5545-425B-A9BD-6D732A2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EFC-AAF3-4B38-8076-E332F5F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2FF-E37A-4B7B-BDEA-6695F6E0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BB42-253E-4424-B398-1D0F278E22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DE22-7CFF-487D-8E6F-EC990731A3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第十二章  国际金融市场一体化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rnational financial Integ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一节  国际金融市场一体化的涵义、原因及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一、国际金融市场一体化的涵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从分散走向整体的过程与状态。包括三个层次的内涵：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金融市场的关联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inkages between mark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各国之间的交易手数和交易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number and volume of transa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利率决定机制与利率趋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ate-setting mechanis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二、国际金融市场一体化的原因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经济的发展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技术进步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自由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机构投资者投资需求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国际货币体系变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金融创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三、国际金融市场一体化的影响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一）积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加快了金融信息传递，提高了金融市场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选择性，满足了各种金融需求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扩大了金融资产的流动性，提高了资本配置效率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促进国际贸易，调节国际收支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（二）消极影响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削弱了各国货币政策自主性，降低了政策效力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导致金融资产价格过度波动，增大风险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增加了金融市场脆弱性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二节  国际金融市场一体化的内容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金融市场关联链的形成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金融市场交易地理障碍的消除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中的资金清算系统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各类金融市场的一体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货币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外汇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短期资金融通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资本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债券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国际股票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中长期国际融资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衍生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三、国际金融市场资产价格的相关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66"/>
                </a:solidFill>
                <a:latin typeface="Arial"/>
              </a:rPr>
              <a:t>第三节  国际金融市场结构变化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一、国际金融市场的体制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从体制上划分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传统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国际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国际金融市场的特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地理分布多样性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）新型市场形成并迅速发展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二、国际金融市场的运行结构及变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主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次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外围金融市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7:49:12Z</dcterms:created>
  <dc:creator>MS User</dc:creator>
  <dc:description/>
  <dc:language>en-US</dc:language>
  <cp:lastModifiedBy>Dell</cp:lastModifiedBy>
  <dcterms:modified xsi:type="dcterms:W3CDTF">2021-08-23T22:51:07Z</dcterms:modified>
  <cp:revision>13</cp:revision>
  <dc:subject/>
  <dc:title>第七章  国际金融市场一体化</dc:title>
</cp:coreProperties>
</file>